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05387"/>
        <c:axId val="92769334"/>
      </c:barChart>
      <c:catAx>
        <c:axId val="55105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69334"/>
        <c:crosses val="autoZero"/>
        <c:auto val="1"/>
        <c:lblAlgn val="ctr"/>
        <c:lblOffset val="100"/>
        <c:noMultiLvlLbl val="0"/>
      </c:catAx>
      <c:valAx>
        <c:axId val="92769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5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B90-661E-4480-8B24-0AC84794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2B2-ED71-44B6-8444-F8AF3802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BA8-F44D-4445-9CE4-F7EDCA2F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D2C-7990-41B3-82A0-06683F62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F70-D561-4AA9-9DFF-88BBFF53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439-F92C-4735-A757-ED2D0F36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5C1-5220-4B21-8667-5948D83E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1F2-581B-4944-B72B-DD10B27F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A72-2440-4C05-B157-185C9C57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FF3-B70D-4084-8846-FEBC1E2F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00E-4EFC-4063-BF60-35FF800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CB5-D154-412B-BA1C-8DB7B7CC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BA210-2AF8-462F-9B4F-89580323C7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