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75467"/>
        <c:axId val="7518924"/>
      </c:barChart>
      <c:catAx>
        <c:axId val="66375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8924"/>
        <c:crosses val="autoZero"/>
        <c:auto val="1"/>
        <c:lblAlgn val="ctr"/>
        <c:lblOffset val="100"/>
        <c:noMultiLvlLbl val="0"/>
      </c:catAx>
      <c:valAx>
        <c:axId val="7518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75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FD9-FD9C-41DC-9ECC-FD7A6B8B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DCA-D493-4D00-896B-DC1408BF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CAF-C21B-4555-AF98-549BBC31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E6F-BD34-4B55-8654-C55D98E4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15D-2CA8-4D91-88A4-932EB957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F0A-D8EF-480C-8B62-DBB9B117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B09-0902-4D97-916B-AAAF500E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21D-B3A4-40D4-9D31-01464534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39F-E758-488D-A0AD-D8FC08E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370-2736-4DEB-84E0-767C9947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7AB-76CD-4819-A052-413A36F3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C0C-9BAF-4055-8E46-BCFCE851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0D3A7-B826-4A5C-B0E4-B8EAFF30B8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