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18733"/>
        <c:axId val="13613523"/>
      </c:barChart>
      <c:catAx>
        <c:axId val="64418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13523"/>
        <c:crosses val="autoZero"/>
        <c:auto val="1"/>
        <c:lblAlgn val="ctr"/>
        <c:lblOffset val="100"/>
        <c:noMultiLvlLbl val="0"/>
      </c:catAx>
      <c:valAx>
        <c:axId val="13613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18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8D9-E9E6-4EDD-B156-DC2C0DBC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D37-3CC3-4032-9D8B-56EB8156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8B0-6357-45FE-B2ED-4E2513F1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AE4-783E-4BAC-AE18-F0620687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F90-066C-498E-A6B8-397C89C2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E07-24B3-45DF-8812-7A1454BE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CB6-706C-4CF3-9D9B-21C8BE04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CEE-824D-433D-A3CB-43729E7A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440-112D-441A-8AB3-02EC8CB3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A16-2898-4D33-B0A1-8C5B8A8D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032-17C8-4CA4-935A-FE21614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1FD-4489-4575-A9EC-DF4B1D33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F890D-9B12-4B5B-967F-6174380883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